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D45-A614-4FE3-AC7A-608FFD8D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24E-A3A6-4FCB-B95C-174AE755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A80-244A-4CF3-8F22-DAD687AC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0E8-BAA1-42A6-B8BD-D8672BBC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B98-79AE-46DE-A3CA-19769425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1704-5494-41F3-B09C-BB4E4662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870D-D136-4F9B-937D-5CA9AAC5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38B1-12AC-4504-A64F-11C755A1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16AD-F2A7-4F88-8565-946A1D5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54DC-FF53-4126-B318-A53AC2DE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E0A-7CE6-4DC5-923F-8E03FD61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516B-A244-44C1-A8D1-2B52237D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2F54-A70A-4355-B7D1-58C7579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F42D-C180-4190-9A89-FB8402B5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1A39-7F02-40F6-A147-59BB325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B36F-158F-4BE8-88DF-3D62DFF2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391F-89CD-4E33-A5F8-D603637C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F694-F372-4B51-A903-CB9B5D20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16E-596F-4249-8F47-7F658CA2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B59-230D-4F60-B091-B07101FF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8C2-0164-4451-9A3D-88767C2D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AE2-4F7B-43E9-AB19-AAC74E46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17E-61A2-4283-9557-9BAB75CA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246-17BF-49B0-B1FD-5B1E1338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A876-17EA-4A8A-929C-81B656B79846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B81F-47C4-43ED-83F2-B54EFCE2377E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Financování 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HS (OSS MZ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středky určené na financování projektů jsou buď převedeny prostřednictvím rozpočtového opatření přímo do akce nebo jsou zařazeny do návrhu státního rozpočtu (pokud má projekt již vydanou řídicí dokumentaci)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oučasně jsou převedeny (rozpočtovány) i příjmy (např. RP 4118 a 4218) ve stejné výši jako výdaj financovaný z EU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latby realizuje příjemce sám prostřednictvím ISSP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ŽoP ze strany řídicího orgánu jsou prostředky ve formě příjmu refundovány z MF (Národní fond) na finanční místo příjemce.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TYTO PROSTŘEDKY NEJSOU URČENY K DALŠÍMU FINANCOVÁNÍ!!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pravy a přeúčtování chyb v projektu je možné provádět výhradně během daného rozpočtového roku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gistrace akcí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Z registruje projekty do systému SMVS na základě schválených žádostí o podporu a informace od příslušného řídicího orgánu, jejichž projektový záměr byl schválen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souladu s Příkazem ministra č.39/2024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gistraci projektů financovaných z EU provádí oddělení EFI2 na základě excellovského podkladu tzv. bilance projektu (není nutné projekt zakládat do resortní databáze)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ávěrečné vyhodnocení akce (ZVA) bude vydáno až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závěrečné zprávy o realizaci. Zdroje financování musí odpovídat částkám uvedených v ISKP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ŽoP zašlete vygenerovaný formulář F1 na adresu finance@mzd.gov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Finanční vypořádání projektu je provedeno vydáním ZVA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roky před vydáním řídicí dokumentac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chválení projektu řídicím orgánem IROP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Žádost o vydání PA zaslat na MZ včetně poslední verze projektové žád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projektu na úrovni vedení MZ budete FM oddělení EFI2 vyzvání k doložení bilanc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aložení projektu do SMVS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chválení registrace projektu prostřednictvím formuláře S09 Dokumentace ak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počtové opatření typu 2 z MZ na KHS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dání sloučené řídicí dokumentace tj. Registrace akce a Stanovení výdajů na financování OSS, které bude zasláno příjemci prostřednictvím datové schránk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aslání řídicího dokumentu na CRR prostřednictvím depeš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zpočtové položk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33000" y="1600200"/>
            <a:ext cx="332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Investiční položky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11 Programové vybaven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12 Ocenitelná práva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21 Stavby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23 Dopravní prostředky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6125 Nákup HW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952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Neinvestiční položky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11 Platy pracovní poměr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13 Platy služební poměr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21 Odměny z dohod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31 Sociální pojištěn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032 Zdravotní pojištěn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GillSans"/>
              </a:rPr>
              <a:t>5342 FKSP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37 Drobný hmotný majetek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39 Nákup materiálu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66 Konzultační, poradenské a právní služby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67 Školen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68 Zpracování dat a služby spojené s IT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69 Ostatní služby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5172 Programové vybavení s pořizovací</a:t>
            </a:r>
            <a:br>
              <a:rPr sz="1600"/>
            </a:b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  cenou pod 60 tis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přímé náklady vycházejí z čerpání přímých nákladů = platí pro schvalování ŽoP v systému MS 2021+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přímé náklady lze čerpat i dříve než přímé, ale je nutné finančně řídit jejich využití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přímé náklady lze také přeúčtovávat z provozních výdajů, a to v průběhu rozpočtového roku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přímé náklady jsou primárně neinvestičního charakteru, ale existují výjimky uvedené v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dokumentu IROP 2021-2027 Kategorie nepřímých způsobilých nákladů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, které jsou účetně investičními náklady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nvestiční nepřímé náklady projektu je nutné stanovit před vydáním Registrace akce a Stanovení výdajů na financování OSS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měny v projektu – změnová řídicí dokumentace (podepsaná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Z vydává změnovou řídicí dokumentaci (podepsanou Ř EFI)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následujících případech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sun data realizac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finančního rámc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v termínech monitorovacích indikátor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sun mezi investičními a neinvestičními položkam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v názvu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!!!! Všechny schválené změny je v souladu s PM č. 39/2024 zapotřebí zasílat na finance@mzd.gov.cz!!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měny v projektu – změnová řídicí dokumentace (technická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Z vydává změnovou řídicí dokumentaci (pouze v SMVS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následujících případech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sun mezi jednotlivými rozpočtovými položkami v rámci dané kategorie (investice, neinvestice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statutárního zástup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měna ve zdrojích financování ( např. po zapojení nároků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zn. Změny mezi položkami (hlavně v kategorii nepřímých nákladů) lze provádět bez předschválení MZ, ale tyto změny je zapotřebí hlásit na finance@mzd.gov.cz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Tipy a trik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aokrouhlování při rozúčtování nákladů – SR podíl nahoru, EU podíl směrem na haléř dol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ontrola zaúčtování celkových výdajů na SR a EU podíl před ukončením finančního rok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ůběžné čerpání nepřímých náklad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ůběžná kontrola hodnoty nedočerpání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(např. po dokončení zakázek vypočítat nový limit pro čerpání nepřímých nákladů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Galuszková Věra, Ing. MBA</cp:lastModifiedBy>
  <cp:lastPrinted>2021-03-30T06:05:26Z</cp:lastPrinted>
  <dcterms:modified xsi:type="dcterms:W3CDTF">2025-09-16T11:18:32Z</dcterms:modified>
  <cp:revision>709</cp:revision>
  <dc:subject/>
  <dc:title>Snímek 1</dc:title>
</cp:coreProperties>
</file>